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2997"/>
        <c:axId val="3987548"/>
      </c:barChart>
      <c:catAx>
        <c:axId val="3992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7548"/>
        <c:crosses val="autoZero"/>
        <c:auto val="1"/>
        <c:lblAlgn val="ctr"/>
        <c:lblOffset val="100"/>
        <c:noMultiLvlLbl val="0"/>
      </c:catAx>
      <c:valAx>
        <c:axId val="3987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2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9C0-4373-4906-B183-2FEF1E0F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EC6-47AC-41A0-9022-61D90A9D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2EF-DE24-4B66-BF27-04193F43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9DE-FC96-4824-BE1C-876D7122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3D5-05EC-4B3A-8DF2-7858A069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C8D-6D93-42A3-8376-26FA7A0A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399-1779-4FB1-8810-44C62D06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435-9BD1-4D47-AFE0-F35C8F7F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7D2-A99D-4A56-B272-A08B2006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D40-8351-4A9B-A11E-C5098F8D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8D9-28CD-45CA-B7CF-87AF2803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DEF-B1C4-4942-A233-15D7F3A1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B75B4-42FE-4D7A-B0AF-C304DEA2FE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