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39714"/>
        <c:axId val="68007786"/>
      </c:barChart>
      <c:catAx>
        <c:axId val="61397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007786"/>
        <c:crosses val="autoZero"/>
        <c:auto val="1"/>
        <c:lblAlgn val="ctr"/>
        <c:lblOffset val="100"/>
        <c:noMultiLvlLbl val="0"/>
      </c:catAx>
      <c:valAx>
        <c:axId val="680077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397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1EA0-1A07-46E5-9FA4-7EAED1F65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8557-452C-4537-84A5-E4ED24E4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15FC-8E2E-4FCD-B898-B489F3BA8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219E-8A45-41FC-8599-02E954277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9A1A-86E9-44A7-BE4A-39146EAE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F8CF-637F-4261-AC97-7704D0F9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1069-3396-49A8-A019-1B499695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CE3E-6FAA-4574-89A9-4EDAF78A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7AA7-92A7-49F6-A1CE-AF7806ED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E4A2-BE0B-48A3-A054-5BC94E29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9713-76BF-4EE5-B3B8-BE2093CE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9309-D6AA-4A6A-94DC-4E65EA49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79546D-0CFE-4F42-AEEE-0AD74BEF64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